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7902AB-D142-4B90-9831-944DA868B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520" cy="3141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640" y="4479840"/>
            <a:ext cx="5619240" cy="36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28"/>
          </p:nvPr>
        </p:nvSpPr>
        <p:spPr>
          <a:xfrm>
            <a:off x="3978360" y="8842320"/>
            <a:ext cx="3042720" cy="46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42DE32-BD5D-4BE9-82DF-8698B21582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520" cy="3141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640" y="4479840"/>
            <a:ext cx="5619240" cy="36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minutes each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29"/>
          </p:nvPr>
        </p:nvSpPr>
        <p:spPr>
          <a:xfrm>
            <a:off x="3978360" y="8842320"/>
            <a:ext cx="3042720" cy="46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65F03F-64A4-4E6D-BE76-29ED6D02444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520" cy="3141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640" y="4479840"/>
            <a:ext cx="5619240" cy="36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ped classroom  (prework; vide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learning – small group, out of class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30"/>
          </p:nvPr>
        </p:nvSpPr>
        <p:spPr>
          <a:xfrm>
            <a:off x="3978360" y="8842320"/>
            <a:ext cx="3042720" cy="46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7C7120-4AA2-45B4-B65B-F2FEB5D1EF2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685-64C6-4DA2-A3E0-CC73650B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BCA-6926-4337-AA9D-17BB46CD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D8E-5879-4ADC-ABEC-D1803B10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AB1-AB3D-4A20-AD3C-78528953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2CEB-36CA-45BE-AEFE-EAD3993D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80EC-2A96-4550-8ADF-E66A5BA2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69E-40A3-4B32-BEF3-3CEF40B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1033-CDEB-436C-997F-BC1ED549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4436-A13E-4EFB-98AF-5D01DDF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AE88-D186-431D-84AF-0CC626C7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DC68-CA79-4E1F-8D0C-D73323CD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E7C-122E-47A3-B495-4EC9B153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DBC5-227B-4F46-BF96-E7B54CE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C8A7-F94C-4220-8BD1-2C11292C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8A56-EF56-4D1E-8EAE-67C47D06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0B52-A2A8-4E52-90DF-CD6C9BC1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BECB-4FB9-4209-B4D6-F79CCA29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72F-1223-4989-8DE4-130627C3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A3B-AC37-4E2E-BB53-66334FEF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BF3-8122-499A-802E-3FDC6B2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BC8-BA84-4000-91B1-CC0288AE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18E-492A-4252-A4BF-11A8009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EE5-2315-45E4-AAB1-82D1F30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60C-7DDC-4EB7-8BE2-950E612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990720"/>
            <a:ext cx="9143640" cy="304560"/>
          </a:xfrm>
          <a:prstGeom prst="rect">
            <a:avLst/>
          </a:prstGeom>
          <a:solidFill>
            <a:srgbClr val="f99d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304560" cy="6857640"/>
          </a:xfrm>
          <a:prstGeom prst="rect">
            <a:avLst/>
          </a:prstGeom>
          <a:solidFill>
            <a:srgbClr val="f99d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7" descr="HSLICshortcolor.jpg"/>
          <p:cNvPicPr/>
          <p:nvPr/>
        </p:nvPicPr>
        <p:blipFill>
          <a:blip r:embed="rId2"/>
          <a:stretch/>
        </p:blipFill>
        <p:spPr>
          <a:xfrm>
            <a:off x="7162920" y="152280"/>
            <a:ext cx="1828440" cy="70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67200" indent="-275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4400" indent="-275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1600" indent="-244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68800" indent="-183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6000" indent="-183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203200" indent="-183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70400" indent="-183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3B8FCC-78CF-430F-9142-EA914D4C6BA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990720"/>
            <a:ext cx="9143640" cy="304560"/>
          </a:xfrm>
          <a:prstGeom prst="rect">
            <a:avLst/>
          </a:prstGeom>
          <a:solidFill>
            <a:srgbClr val="f99d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304560" cy="6857640"/>
          </a:xfrm>
          <a:prstGeom prst="rect">
            <a:avLst/>
          </a:prstGeom>
          <a:solidFill>
            <a:srgbClr val="f99d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7" descr="HSLICshortcolor.jpg"/>
          <p:cNvPicPr/>
          <p:nvPr/>
        </p:nvPicPr>
        <p:blipFill>
          <a:blip r:embed="rId2"/>
          <a:stretch/>
        </p:blipFill>
        <p:spPr>
          <a:xfrm>
            <a:off x="7162920" y="152280"/>
            <a:ext cx="1828440" cy="705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269CEA-ABB5-4A88-8291-F886DE7876B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hendrix@salud.unm.edu" TargetMode="External"/><Relationship Id="rId2" Type="http://schemas.openxmlformats.org/officeDocument/2006/relationships/hyperlink" Target="mailto:smorley@salud.unm.edu" TargetMode="External"/><Relationship Id="rId3" Type="http://schemas.openxmlformats.org/officeDocument/2006/relationships/hyperlink" Target="mailto:jbenson1@salud.unm.edu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hendrix@salud.unm.edu" TargetMode="External"/><Relationship Id="rId2" Type="http://schemas.openxmlformats.org/officeDocument/2006/relationships/hyperlink" Target="http://hdl.handle.net/1928/23711" TargetMode="External"/><Relationship Id="rId3" Type="http://schemas.openxmlformats.org/officeDocument/2006/relationships/hyperlink" Target="http://hdl.handle.net/1928/23711" TargetMode="External"/><Relationship Id="rId4" Type="http://schemas.openxmlformats.org/officeDocument/2006/relationships/hyperlink" Target="http://hdl.handle.net/1928/31867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480924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iderations in Caring for People with Physical Disabilitie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Course El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5367240"/>
            <a:ext cx="6629040" cy="1353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3000"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grid C. Hendrix, MILS  Nursing Services Librarian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hendrix@salud.unm.edu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rah Knox Morley, MLS, PhD,  Clinical Services Librarian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morley@salud.unm.ed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ennifer Benson, MD, Assistant Professor, Internal Medicine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jbenson1@salud.unm.ed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stern Group on Educational Affairs Regional Mee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cson, A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ril 1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1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32CA91-0648-4D17-897D-67954268A2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Placeholder 7" descr=""/>
          <p:cNvPicPr/>
          <p:nvPr/>
        </p:nvPicPr>
        <p:blipFill>
          <a:blip r:embed="rId4"/>
          <a:stretch/>
        </p:blipFill>
        <p:spPr>
          <a:xfrm>
            <a:off x="2666880" y="140976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5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6552720" cy="134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4 El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2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91440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e students to deliver healthcare to people with physical dis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recognized LCME gap in the curric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gap in health professional educ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evidenced by personal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12"/>
          </p:nvPr>
        </p:nvSpPr>
        <p:spPr>
          <a:xfrm rot="10800000">
            <a:off x="6080760" y="6721920"/>
            <a:ext cx="45360" cy="13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5C9415-5F63-42E3-A911-9095C875497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553080" y="70560"/>
            <a:ext cx="2445840" cy="89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6396840" y="5003280"/>
            <a:ext cx="2758320" cy="1854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"/>
          <p:cNvSpPr/>
          <p:nvPr/>
        </p:nvSpPr>
        <p:spPr>
          <a:xfrm>
            <a:off x="1219320" y="5217120"/>
            <a:ext cx="5939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ive open to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year MD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762120" y="0"/>
            <a:ext cx="8915040" cy="14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ining Attitudes and Barr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s and overview of this ele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457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lf-assessment questionnai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457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ore prior experiences with disability (small and large group discus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CCD113-6106-48F0-B9A4-0C7126245A0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935720" cy="83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838080" y="76320"/>
            <a:ext cx="9524520" cy="837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rtiv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A00BE3-7E55-4649-B714-2DF03897B8F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mall group in class 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plore available community services/resources based on specific case scenari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istive Technolo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urable medical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me mod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rvice anim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arge group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5562720" y="3917880"/>
            <a:ext cx="3250800" cy="24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240" cy="1569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vited guests share personal life stories and experiences with healthcar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(small group discussion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6783B8-0160-41CE-8954-DE1B2BDA6C3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781320" cy="14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Interdisciplinary 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bserve functional history taking conducted by medical, occupational, and physical therapy provid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with a social worker regard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pecific cultural competencies, etiquette and clinical accommodations for working with deaf / hard‐of‐hearing pat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5D98C2-1CE5-4AFD-BC63-06FFF3FAD9A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52280" y="-152280"/>
            <a:ext cx="7619760" cy="1569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ocacy, Access, and Law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17136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raft an effective letter of medical necess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escribe public accommodations in a healthcare fac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5716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M Hospitals/Clinics Environmental Review – checkl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5E58E7-3B74-4E8C-8180-5932BB9C1B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5791320" y="4541040"/>
            <a:ext cx="228564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55272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6 and Bey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ed for all MD and PA students (N=~1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ing I – Year 1 fall semes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ited guests with disability personal s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ing IV – Year 2 fall seme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 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ive Resour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nic accessibility check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eness of patient persp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249C3B-AC89-4982-978E-278E705CF27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rid C. Hendrix, M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hendrix@salud.unm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05) 272-06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ive syllabu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dl.handle.net/1928/23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bility curriculum coverage – NMPH p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dl.handle.net/1928/318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11EA62-A956-4D02-89E6-CB7679EB16F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5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  <Words>322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5:08:19Z</dcterms:created>
  <dc:creator>lomas2211</dc:creator>
  <dc:description/>
  <dc:language>en-US</dc:language>
  <cp:lastModifiedBy>Ingrid Hendrix</cp:lastModifiedBy>
  <cp:lastPrinted>2015-02-23T20:45:59Z</cp:lastPrinted>
  <dcterms:modified xsi:type="dcterms:W3CDTF">2016-04-07T20:58:37Z</dcterms:modified>
  <cp:revision>26</cp:revision>
  <dc:subject/>
  <dc:title>QUESTIONS?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9</vt:r8>
  </property>
</Properties>
</file>