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635016-D70C-4528-B3D9-678B0187B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520" cy="3141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640" y="4479840"/>
            <a:ext cx="5619240" cy="36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28"/>
          </p:nvPr>
        </p:nvSpPr>
        <p:spPr>
          <a:xfrm>
            <a:off x="3978360" y="8842320"/>
            <a:ext cx="3042720" cy="46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45D788-0B20-4772-ACAD-9059F53D32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520" cy="3141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640" y="4479840"/>
            <a:ext cx="5619240" cy="36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5 minutes each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Num" idx="29"/>
          </p:nvPr>
        </p:nvSpPr>
        <p:spPr>
          <a:xfrm>
            <a:off x="3978360" y="8842320"/>
            <a:ext cx="3042720" cy="46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7B591F-46E4-4705-A955-44B0C40730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417680" y="1163520"/>
            <a:ext cx="4187520" cy="3141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640" y="4479840"/>
            <a:ext cx="5619240" cy="36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ipped classroom  (prework; vide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learning – small group, out of class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30"/>
          </p:nvPr>
        </p:nvSpPr>
        <p:spPr>
          <a:xfrm>
            <a:off x="3978360" y="8842320"/>
            <a:ext cx="3042720" cy="46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1921DB-0F47-4938-A4F7-D337DA5B176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1E4-3229-43A6-837A-80DB1F893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136-E73C-4FE0-AF01-35E0B183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592-2A3E-49D9-8476-DDF85719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A05-27A4-4E13-8396-F20F408E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F759-E448-47C5-8809-0D507EF4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CE7F-65F3-418C-A55B-88AE3651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F02D-EEAD-487E-A8F3-932E79B0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49AC-B142-4EC5-886E-227B0594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1750-8023-4C8C-83B3-7AB488BB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1B12-FF10-4174-B881-CD8FCAE7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27F2-8C4E-4545-BEAF-AECA5FB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5B1-124E-4BAE-9EE5-A00B121C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8BCB-D367-446C-9114-30D4E0D6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EC09-C22A-4194-A854-BC480AFF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DBB0-A9A7-4560-AA9E-0B3470A6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B02D-77FC-48B3-9414-49B4C3F0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0ECD-5349-428F-B697-86DD4757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FBC0-DFBA-4FD7-8D6D-DA5CEBA7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C626-C52E-43BA-A9CE-47F86EBE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BE4-6076-45B6-AFE9-7C3EE729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2E4C-D795-4B18-B88B-824B93BD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61C-4DEF-414B-B683-3B3B1D7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276D-E200-4EC0-907A-0F5B1F6D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D82-CC91-4268-832A-0AE9CFF4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990720"/>
            <a:ext cx="9143640" cy="304560"/>
          </a:xfrm>
          <a:prstGeom prst="rect">
            <a:avLst/>
          </a:prstGeom>
          <a:solidFill>
            <a:srgbClr val="f99d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304560" cy="6857640"/>
          </a:xfrm>
          <a:prstGeom prst="rect">
            <a:avLst/>
          </a:prstGeom>
          <a:solidFill>
            <a:srgbClr val="f99d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" name="Picture 7" descr="HSLICshortcolor.jpg"/>
          <p:cNvPicPr/>
          <p:nvPr/>
        </p:nvPicPr>
        <p:blipFill>
          <a:blip r:embed="rId2"/>
          <a:stretch/>
        </p:blipFill>
        <p:spPr>
          <a:xfrm>
            <a:off x="7162920" y="152280"/>
            <a:ext cx="1828440" cy="70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367200" indent="-275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4400" indent="-275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01600" indent="-244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68800" indent="-183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6000" indent="-183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203200" indent="-183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570400" indent="-183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4B4451-FD7E-4556-AFA6-6352FFB7E41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990720"/>
            <a:ext cx="9143640" cy="304560"/>
          </a:xfrm>
          <a:prstGeom prst="rect">
            <a:avLst/>
          </a:prstGeom>
          <a:solidFill>
            <a:srgbClr val="f99d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304560" cy="6857640"/>
          </a:xfrm>
          <a:prstGeom prst="rect">
            <a:avLst/>
          </a:prstGeom>
          <a:solidFill>
            <a:srgbClr val="f99d1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7" descr="HSLICshortcolor.jpg"/>
          <p:cNvPicPr/>
          <p:nvPr/>
        </p:nvPicPr>
        <p:blipFill>
          <a:blip r:embed="rId2"/>
          <a:stretch/>
        </p:blipFill>
        <p:spPr>
          <a:xfrm>
            <a:off x="7162920" y="152280"/>
            <a:ext cx="1828440" cy="705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DA3803-3157-4024-A87F-B05443228DA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hendrix@salud.unm.edu" TargetMode="External"/><Relationship Id="rId2" Type="http://schemas.openxmlformats.org/officeDocument/2006/relationships/hyperlink" Target="mailto:smorley@salud.unm.edu" TargetMode="External"/><Relationship Id="rId3" Type="http://schemas.openxmlformats.org/officeDocument/2006/relationships/hyperlink" Target="mailto:jbenson1@salud.unm.edu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hendrix@salud.unm.edu" TargetMode="External"/><Relationship Id="rId2" Type="http://schemas.openxmlformats.org/officeDocument/2006/relationships/hyperlink" Target="http://hdl.handle.net/1928/23711" TargetMode="External"/><Relationship Id="rId3" Type="http://schemas.openxmlformats.org/officeDocument/2006/relationships/hyperlink" Target="http://hdl.handle.net/1928/23711" TargetMode="External"/><Relationship Id="rId4" Type="http://schemas.openxmlformats.org/officeDocument/2006/relationships/hyperlink" Target="http://hdl.handle.net/1928/31867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800" y="480924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iderations in Caring for People with Physical Disabilities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Course Ele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5367240"/>
            <a:ext cx="6629040" cy="1353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73000"/>
          </a:bodyPr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grid C. Hendrix, MILS  Nursing Services Librarian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hendrix@salud.unm.edu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rah Knox Morley, MLS, PhD,  Clinical Services Librarian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morley@salud.unm.ed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ennifer Benson, MD, Assistant Professor, Internal Medicine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jbenson1@salud.unm.ed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stern Group on Educational Affairs Regional Mee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cson, A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pril 1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201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1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2601B4-20B1-4288-B93D-61BD2B53C6C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Placeholder 7" descr=""/>
          <p:cNvPicPr/>
          <p:nvPr/>
        </p:nvPicPr>
        <p:blipFill>
          <a:blip r:embed="rId4"/>
          <a:stretch/>
        </p:blipFill>
        <p:spPr>
          <a:xfrm>
            <a:off x="2666880" y="140976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5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6552720" cy="134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4 El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17680"/>
            <a:ext cx="82292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914400" indent="-514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e students to deliver healthcare to people with physical dis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ress recognized LCME gap in the curric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ledge gap in health professional educa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evidenced by personal exper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12"/>
          </p:nvPr>
        </p:nvSpPr>
        <p:spPr>
          <a:xfrm rot="10800000">
            <a:off x="6080760" y="6721920"/>
            <a:ext cx="45360" cy="13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B981BD-3F05-4D7B-A952-7839672C367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553080" y="70560"/>
            <a:ext cx="2445840" cy="89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6396840" y="5003280"/>
            <a:ext cx="2758320" cy="18543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8"/>
          <p:cNvSpPr/>
          <p:nvPr/>
        </p:nvSpPr>
        <p:spPr>
          <a:xfrm>
            <a:off x="1219320" y="5217120"/>
            <a:ext cx="5939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ive open to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year MD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762120" y="0"/>
            <a:ext cx="8915040" cy="14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ining Attitudes and Barr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800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s and overview of this ele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457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lf-assessment questionnai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457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ore prior experiences with disability (small and large group discus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172426-B2B2-4D18-9C56-0773EABB296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935720" cy="83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838080" y="76320"/>
            <a:ext cx="9524520" cy="837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pportive Resourc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BAFFD3-8AF7-49DE-8802-783750016AC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mall group in class 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Calibri"/>
              <a:buAutoNum type="alphaL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plore available community services/resources based on specific case scenari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ssistive Technolog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urable medical equi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ducational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ome mod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ervice anim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15000"/>
              </a:lnSpc>
              <a:buClr>
                <a:srgbClr val="000000"/>
              </a:buClr>
              <a:buFont typeface="Calibri"/>
              <a:buAutoNum type="romanLcPeriod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arge group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5562720" y="3917880"/>
            <a:ext cx="3250800" cy="24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240" cy="1569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vited guests share personal life stories and experiences with healthcar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(small group discussion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58E4C9-CF18-4D3D-B447-B207AD5BD15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6781320" cy="1417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Interdisciplinary 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bserve functional history taking conducted by medical, occupational, and physical therapy provid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iscussion with a social worker regard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pecific cultural competencies, etiquette and clinical accommodations for working with deaf / hard‐of‐hearing pat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0EB19B-7F1C-4B91-B6FA-086332C69AA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52280" y="-152280"/>
            <a:ext cx="7619760" cy="1569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ocacy, Access, and Law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240" cy="4296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17136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raft an effective letter of medical necess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Calibri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escribe public accommodations in a healthcare fac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857160"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M Hospitals/Clinics Environmental Review – checkl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2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764869-0D5E-41A5-98C8-F7177E01F9C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5791320" y="4541040"/>
            <a:ext cx="2285640" cy="22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552720" cy="639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6 and Bey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opted for all MD and PA students (N=~1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ing I – Year 1 fall semes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ited guests with disability personal s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toring IV – Year 2 fall seme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 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ive Resour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nic accessibility check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wareness of patient persp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2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9325BD-ABA1-46B6-9B09-56F579AD310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rid C. Hendrix, MI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hendrix@salud.unm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505) 272-06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ive syllabus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dl.handle.net/1928/237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bility curriculum coverage – NMPH p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hdl.handle.net/1928/318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A30A24-3FC6-44F4-B489-1C827D3D7F9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5"/>
          <a:stretch/>
        </p:blipFill>
        <p:spPr>
          <a:xfrm>
            <a:off x="6553080" y="76320"/>
            <a:ext cx="244584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  <Words>322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5:08:19Z</dcterms:created>
  <dc:creator>lomas2211</dc:creator>
  <dc:description/>
  <dc:language>en-US</dc:language>
  <cp:lastModifiedBy>Ingrid Hendrix</cp:lastModifiedBy>
  <cp:lastPrinted>2015-02-23T20:45:59Z</cp:lastPrinted>
  <dcterms:modified xsi:type="dcterms:W3CDTF">2016-04-07T20:58:37Z</dcterms:modified>
  <cp:revision>26</cp:revision>
  <dc:subject/>
  <dc:title>QUESTIONS?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9</vt:r8>
  </property>
</Properties>
</file>