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ct" ContentType="image/x-pict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8.pct" ContentType="image/x-pict"/>
  <Override PartName="/ppt/media/image11.png" ContentType="image/png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F19-1A76-4202-9ADF-C8230887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C54-180E-4476-9206-F5A73377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F33-2754-43AB-B8FA-0B1ECE72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7641-2300-45F1-983A-E067784A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AE37-C003-47AD-850F-28030801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924B-E6E0-42E5-A172-45F97151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8460-792B-4428-AF0C-DB5D8EDD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E476-D35D-4953-BB5E-252E6588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287D-09FF-4932-A92B-C894A2B5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2EEB-2EC5-44D2-BAB3-E99EBE1F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0EA6-5584-46AA-819D-4880F868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A28-207E-4B7E-A1AE-CF7D2825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DF79-99A3-4A83-8E2D-6318989F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AB26-BC1E-4A7E-9F61-355C267D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F0ED-CC05-4F34-BB83-4C89C3CC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1EE2-91F0-4A9C-BBE2-D97449B2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E031-C56F-41FA-A4DA-7910DB26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91F-E3DB-4569-99FD-E940BE69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974-E9D1-4D7B-B962-9B410492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720-45B9-4743-9DD8-4DA6BC9B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026-309A-4C16-BE38-E622E636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9CC-CF88-415D-9BCB-B2F7D0EA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3DE-AB5A-4573-AD15-A90E6E8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921-9552-488B-B5FB-E241BDC8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22C1-6CF3-4B51-9CEA-E4AA8079808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48CE-0AD3-462A-AA51-49FB584580A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dvance-portal.net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Century Gothic"/>
              </a:rPr>
              <a:t>Women in Science </a:t>
            </a:r>
            <a:br>
              <a:rPr sz="4400"/>
            </a:br>
            <a:r>
              <a:rPr b="1" lang="en-US" sz="4400" spc="-1" strike="noStrike">
                <a:solidFill>
                  <a:srgbClr val="f7d47d"/>
                </a:solidFill>
                <a:latin typeface="Century Gothic"/>
              </a:rPr>
              <a:t>&amp; Engineering</a:t>
            </a:r>
            <a:br>
              <a:rPr sz="4800"/>
            </a:br>
            <a:br>
              <a:rPr sz="1400"/>
            </a:br>
            <a:r>
              <a:rPr b="1" lang="en-US" sz="3600" spc="-1" strike="noStrike">
                <a:solidFill>
                  <a:srgbClr val="f7d47d"/>
                </a:solidFill>
                <a:latin typeface="Century Gothic"/>
              </a:rPr>
              <a:t>What Do We Know?</a:t>
            </a:r>
            <a:br>
              <a:rPr sz="3600"/>
            </a:br>
            <a:r>
              <a:rPr b="1" lang="en-US" sz="3600" spc="-1" strike="noStrike">
                <a:solidFill>
                  <a:srgbClr val="f7d47d"/>
                </a:solidFill>
                <a:latin typeface="Century Gothic"/>
              </a:rPr>
              <a:t>Where Do We Go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Century Gothic"/>
              </a:rPr>
              <a:t>Jane Zimmer Daniels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Century Gothic"/>
              </a:rPr>
              <a:t>The Henry Luce Foundation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78176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DOCTORAL SCIENTISTS AND ENGINEERS EMPLOYED IN</a:t>
            </a:r>
            <a:br>
              <a:rPr sz="2000"/>
            </a:b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FOUR-YEAR COLLEGES AND UNIVERSITIES BY FIELD OF</a:t>
            </a:r>
            <a:br>
              <a:rPr sz="2000"/>
            </a:b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DOCTORATE, ACADEMIC RANK AND SEX, 2001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6095880"/>
            <a:ext cx="7772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Tahoma"/>
              </a:rPr>
              <a:t>Source: CPST, data derived from National Science Foundation, 2001 Survey of   </a:t>
            </a:r>
            <a:br>
              <a:rPr sz="1400"/>
            </a:br>
            <a:r>
              <a:rPr b="1" lang="en-US" sz="1400" spc="-1" strike="noStrike">
                <a:solidFill>
                  <a:srgbClr val="2f1311"/>
                </a:solidFill>
                <a:latin typeface="Tahoma"/>
              </a:rPr>
              <a:t>              Doctorate Recipients and Science and Engineering Doctorate Awards, 200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238880" cy="4618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705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Institutional Response to Identified Issues for Women Faculty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ove Toward Balance – greater flexibility and individual contro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iden Paths to Success – self-study &amp; policy review to discover impediments and increase opt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xamine the Environment – women’s culture vs. traditional scientists’ cultu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324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Effective Strategies for Student</a:t>
            </a:r>
            <a:br>
              <a:rPr sz="3200"/>
            </a:b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Recruitment and Retention</a:t>
            </a:r>
            <a:br>
              <a:rPr sz="3200"/>
            </a:b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(institution focused)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urricular (CMU, EPIC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aching and Lear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endered langua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edagogy (wait time, teams, attention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licies and Practices (admissions, merit awards, placement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Cultu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7705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Policy: A Continuum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ducation (K-12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urriculum/Standards – MA/NJ/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unsel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llege Admissions-Scholarship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iring, Promotion, Tenu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Babcock &amp; Lashever –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Women Don’t Ask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alian –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Why So Slow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ender Schem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umulative Disadvanta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oody –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Rising Above Cognitive Error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Helping Junior Faculty Succe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ACH – WEL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7705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Policy: A Continuum</a:t>
            </a:r>
            <a:br>
              <a:rPr sz="3600"/>
            </a:b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7238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ational Recognition/Award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Administration – composition &amp; knowledg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705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Issu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ow do we create institutional change to improve the educational and work experience for women and men from diverse cultures and experienc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 legal challenges will there be to proactive support for females and how will we deal with the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477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086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WE website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www.aweonline.org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– assessment and tracking tools and mo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ew Formulas for America’s Workforce Girls in Science and Engineering </a:t>
            </a: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NSF 03-208 – Results from 211 NSF sponsored projects related to gender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alancing the Equation (appendices) National Council for Research on Wom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nnotated bibliography on Society of Women Engineers website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www.swe.or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477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086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DVANCE –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www.advance-portal.net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anding Our Ground – A Guidebook for STEM Educators in the Post-Michigan Era (AAAS &amp; NACM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omen in Academia – Institutional Change to Enhance Success (Purdue University May 2005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477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Resources (Pre-college)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omen’s Adventures in Science (Scholastic Pres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ww.iwaswondering.or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anging Our World – True Stories 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f Women Engineers (American Society of Civil Engineer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ww.engineergirl.or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72392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Aft>
                <a:spcPts val="20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ZD Perspecti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Aft>
                <a:spcPts val="20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Clare Boothe Luce Progra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Aft>
                <a:spcPts val="2001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 Do We Know (1960’s-present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Aft>
                <a:spcPts val="2001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47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 Perspectiv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20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cademic preparation – Sociology, Counseling, Organizational Behavio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rector, Women in Engineering Program at Purdue University 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(20+ years)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SF Program Director (2 year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ogram Director for the Henry Luce Foundation (5+ year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457200"/>
            <a:ext cx="6553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d47d"/>
                </a:solidFill>
                <a:latin typeface="Century Gothic"/>
              </a:rPr>
              <a:t>The Clare Boothe Luce Progra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1523880"/>
            <a:ext cx="5410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Century Gothic"/>
              </a:rPr>
              <a:t>    </a:t>
            </a:r>
            <a:r>
              <a:rPr b="1" lang="en-US" sz="2800" spc="-1" strike="noStrike">
                <a:solidFill>
                  <a:srgbClr val="2f1311"/>
                </a:solidFill>
                <a:latin typeface="Century Gothic"/>
              </a:rPr>
              <a:t>Established in 1987 by the generous bequest of Clare Boothe Luce “to encourage women to enter, study, and teach” in fields where there have been obstacles to their advancement — the sciences (including mathematics) and engineering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9248" b="7143"/>
          <a:stretch/>
        </p:blipFill>
        <p:spPr>
          <a:xfrm>
            <a:off x="304920" y="2362320"/>
            <a:ext cx="1954080" cy="2590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28600" y="6172200"/>
            <a:ext cx="61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hotograph courtesy of Chas Geer Photography © 198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The Clare Boothe Luce Program</a:t>
            </a:r>
            <a:br>
              <a:rPr sz="3600"/>
            </a:b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66740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upport women who are studying or teaching in the sciences and engineer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8520" indent="-257040"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Be a catalyst for institutional change so that women can thrive and reach their full potenti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22716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d47d"/>
                </a:solidFill>
                <a:latin typeface="Century Gothic"/>
              </a:rPr>
              <a:t>The Clare Boothe Luce Program</a:t>
            </a:r>
            <a:br>
              <a:rPr sz="3200"/>
            </a:br>
            <a:r>
              <a:rPr b="1" i="1" lang="en-US" sz="2800" spc="-1" strike="noStrike">
                <a:solidFill>
                  <a:srgbClr val="f7d47d"/>
                </a:solidFill>
                <a:latin typeface="Century Gothic"/>
              </a:rPr>
              <a:t>1468 women recipients - &gt;$106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6019920"/>
            <a:ext cx="739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d47d"/>
                </a:solidFill>
                <a:latin typeface="Century Gothic"/>
              </a:rPr>
              <a:t>*Approximately $6.5 M annually – 58% to Designated Institutions and 42% to </a:t>
            </a:r>
            <a:br>
              <a:rPr sz="1400"/>
            </a:br>
            <a:r>
              <a:rPr b="1" lang="en-US" sz="1400" spc="-1" strike="noStrike">
                <a:solidFill>
                  <a:srgbClr val="f7d47d"/>
                </a:solidFill>
                <a:latin typeface="Century Gothic"/>
              </a:rPr>
              <a:t>  Invited Institution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417680"/>
          <a:ext cx="7875720" cy="42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7680"/>
                    <a:ext cx="787572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y Make an Effor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6507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’s the “right” thing to d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’s the “legal” thing to d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helps the U.S. be competiti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improves the profess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4772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at Do We D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01028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fore 1960s – no women, no one cared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970s and 1980s – few women, find them and fix them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000 – a few more women, fix the system so women are attracted and retain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5791320"/>
            <a:ext cx="7559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2f1311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Includes earth, atmospheric, and ocean sciences, as well as physics, astronomy </a:t>
            </a:r>
            <a:br>
              <a:rPr sz="1400"/>
            </a:b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 and chemistry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Source: CPST, data derived from NSF, Science and Engineering Degrees: 1992-200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"/>
            <a:ext cx="778176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BACHELOR'S DEGREES IN SCIENCE AND ENGINEERING</a:t>
            </a:r>
            <a:br>
              <a:rPr sz="2000"/>
            </a:b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BY FIELD AND SEX 1992 to 2001</a:t>
            </a:r>
            <a:br>
              <a:rPr sz="2000"/>
            </a:b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(U.S. Citizens and Permanent Residents Only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7772400" cy="1849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5333760" cy="176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8:54:23Z</dcterms:created>
  <dc:creator>Preferred Customer</dc:creator>
  <dc:description/>
  <dc:language>en-US</dc:language>
  <cp:lastModifiedBy>Anita Obermeier</cp:lastModifiedBy>
  <dcterms:modified xsi:type="dcterms:W3CDTF">2006-03-27T19:20:35Z</dcterms:modified>
  <cp:revision>48</cp:revision>
  <dc:subject/>
  <dc:title>Female Faculty Members in Engineering and the Sciences</dc:title>
</cp:coreProperties>
</file>